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E8F-F61C-4EAB-A89F-0025EF93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3E0-B66D-406A-B18D-C079C20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CBA-DD7A-4086-8037-F9D7A4FD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A15-E339-4F8D-BFDD-1769F5EC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412-51D0-4B94-B006-93CAAAFF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3FB-D531-493F-9EF8-48F9498A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4FE-ACFD-42E2-8C51-46A62583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044-0291-45E9-B5CF-8FF27CA1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F4B-9402-413B-8DDE-1E8B082F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792-9904-4D4B-A415-8916766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92A-0BDF-4AB4-8CCE-B9E1FB4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A5F-2C05-48C1-8F95-B833430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368-FFCC-4FC2-9BDF-68F1E0F66B8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UnaiponLegendaryTal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3789360"/>
            <a:ext cx="3779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David Unaipon in the 1920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133720"/>
            <a:ext cx="2857320" cy="364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476280"/>
            <a:ext cx="5400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0e500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David Unaipon</a:t>
            </a:r>
            <a:endParaRPr b="0" lang="en-US" sz="5400" spc="1" strike="noStrike">
              <a:ln w="9360">
                <a:solidFill>
                  <a:srgbClr val="f0e500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Blackadder ITC"/>
              </a:rPr>
              <a:t>About David Unaip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2781000"/>
            <a:ext cx="361296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Born in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28 September 1872 at the Point McLeay Miss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A preacher, author and inventor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View of Point Mcleay and Point Sturt"/>
          <p:cNvPicPr/>
          <p:nvPr/>
        </p:nvPicPr>
        <p:blipFill>
          <a:blip r:embed="rId1"/>
          <a:stretch/>
        </p:blipFill>
        <p:spPr>
          <a:xfrm>
            <a:off x="684360" y="1916280"/>
            <a:ext cx="4025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Career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In 1909, he invent  the handpiece shearing mach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11640" y="508464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3840" y="1341360"/>
            <a:ext cx="3710160" cy="485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1950840" cy="186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4724280"/>
            <a:ext cx="2843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shearing machine to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5280" y="1844640"/>
            <a:ext cx="4402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Knew as Australia's Leonardo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( inventor and design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1654200" cy="24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4748040" cy="201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3280" y="4581360"/>
            <a:ext cx="4043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Fort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orte"/>
              </a:rPr>
              <a:t>His picture is on the Fifty Dollar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Achieve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213336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In 1953, he received the Coronation Medal by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discovering the secret of perpetual mot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He also invented many other machines, songs and boo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Image:Queen Elizabeth II Coronation Medal.png"/>
          <p:cNvPicPr/>
          <p:nvPr/>
        </p:nvPicPr>
        <p:blipFill>
          <a:blip r:embed="rId1"/>
          <a:stretch/>
        </p:blipFill>
        <p:spPr>
          <a:xfrm>
            <a:off x="1908000" y="2205000"/>
            <a:ext cx="1114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00360" y="2781360"/>
            <a:ext cx="405144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3:34:35Z</dcterms:created>
  <dc:creator>Reservoir District Secondary College</dc:creator>
  <dc:description/>
  <dc:language>en-US</dc:language>
  <cp:lastModifiedBy>Reservoir District Secondary College</cp:lastModifiedBy>
  <dcterms:modified xsi:type="dcterms:W3CDTF">2008-07-28T03:30:27Z</dcterms:modified>
  <cp:revision>8</cp:revision>
  <dc:subject/>
  <dc:title>Slide 1</dc:title>
</cp:coreProperties>
</file>